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81A-3E68-4A7B-B666-69628C7F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655-12AE-420A-8C12-8753C08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314-D4FA-4BBB-B0D7-85A65CEE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209-C419-4410-AF37-016158E4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BC7-7C9A-4C11-AFCB-C60B4D2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28F-D664-4217-9B8B-03E5405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6CB-EB3F-4B83-8EA3-8DB1F22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5C8-E497-401F-889C-01A30C94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30B-D102-4264-AC61-289AC57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2E3-DAB9-4D8C-AB05-656B233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C25-1E15-4652-AC4E-E07B0DE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F32-5937-4969-9838-35D565FD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43BCF-5081-4FE7-B1F6-EA49962AB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6256D-2743-4B9A-9421-F248D0C2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acintosh HD:Users:lydiakinney:Desktop:Screen shot 2010-05-06 at 11.41.20 AM.png"/>
          <p:cNvPicPr/>
          <p:nvPr/>
        </p:nvPicPr>
        <p:blipFill>
          <a:blip r:embed="rId1"/>
          <a:stretch/>
        </p:blipFill>
        <p:spPr>
          <a:xfrm>
            <a:off x="1832040" y="1187280"/>
            <a:ext cx="54864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creen shot 2010-05-06 at 12.52.27 PM.png"/>
          <p:cNvPicPr/>
          <p:nvPr/>
        </p:nvPicPr>
        <p:blipFill>
          <a:blip r:embed="rId1"/>
          <a:stretch/>
        </p:blipFill>
        <p:spPr>
          <a:xfrm>
            <a:off x="1828800" y="1374840"/>
            <a:ext cx="5486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Macintosh HD:Users:lydiakinney:Desktop:Screen shot 2010-05-06 at 11.49.28 AM.png"/>
          <p:cNvPicPr/>
          <p:nvPr/>
        </p:nvPicPr>
        <p:blipFill>
          <a:blip r:embed="rId1"/>
          <a:stretch/>
        </p:blipFill>
        <p:spPr>
          <a:xfrm>
            <a:off x="1101600" y="635040"/>
            <a:ext cx="7204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Macintosh HD:Users:lydiakinney:Desktop:Screen shot 2010-05-06 at 11.58.16 AM.png"/>
          <p:cNvPicPr/>
          <p:nvPr/>
        </p:nvPicPr>
        <p:blipFill>
          <a:blip r:embed="rId1"/>
          <a:stretch/>
        </p:blipFill>
        <p:spPr>
          <a:xfrm>
            <a:off x="336600" y="271440"/>
            <a:ext cx="82296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acintosh HD:Users:lydiakinney:Desktop:Screen shot 2010-05-06 at 12.08.03 PM.png"/>
          <p:cNvPicPr/>
          <p:nvPr/>
        </p:nvPicPr>
        <p:blipFill>
          <a:blip r:embed="rId1"/>
          <a:stretch/>
        </p:blipFill>
        <p:spPr>
          <a:xfrm>
            <a:off x="336600" y="447840"/>
            <a:ext cx="8217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acintosh HD:Users:lydiakinney:Desktop:Screen shot 2010-05-06 at 12.13.46 PM.png"/>
          <p:cNvPicPr/>
          <p:nvPr/>
        </p:nvPicPr>
        <p:blipFill>
          <a:blip r:embed="rId1"/>
          <a:stretch/>
        </p:blipFill>
        <p:spPr>
          <a:xfrm>
            <a:off x="311040" y="388800"/>
            <a:ext cx="84614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Macintosh HD:Users:lydiakinney:Desktop:Screen shot 2010-05-06 at 12.27.11 PM.png"/>
          <p:cNvPicPr/>
          <p:nvPr/>
        </p:nvPicPr>
        <p:blipFill>
          <a:blip r:embed="rId1"/>
          <a:stretch/>
        </p:blipFill>
        <p:spPr>
          <a:xfrm>
            <a:off x="609480" y="298440"/>
            <a:ext cx="816300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creen shot 2010-05-06 at 12.34.28 PM.png"/>
          <p:cNvPicPr/>
          <p:nvPr/>
        </p:nvPicPr>
        <p:blipFill>
          <a:blip r:embed="rId1"/>
          <a:stretch/>
        </p:blipFill>
        <p:spPr>
          <a:xfrm>
            <a:off x="790560" y="765000"/>
            <a:ext cx="7567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creen shot 2010-05-06 at 12.41.14 PM.png"/>
          <p:cNvPicPr/>
          <p:nvPr/>
        </p:nvPicPr>
        <p:blipFill>
          <a:blip r:embed="rId1"/>
          <a:stretch/>
        </p:blipFill>
        <p:spPr>
          <a:xfrm>
            <a:off x="816120" y="622440"/>
            <a:ext cx="70246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creen shot 2010-05-06 at 12.44.02 PM.png"/>
          <p:cNvPicPr/>
          <p:nvPr/>
        </p:nvPicPr>
        <p:blipFill>
          <a:blip r:embed="rId1"/>
          <a:stretch/>
        </p:blipFill>
        <p:spPr>
          <a:xfrm>
            <a:off x="1828800" y="1360440"/>
            <a:ext cx="54864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7:25:58Z</dcterms:created>
  <dc:creator>Lydia  Kinney </dc:creator>
  <dc:description/>
  <dc:language>en-US</dc:language>
  <cp:lastModifiedBy>Lydia  Kinney </cp:lastModifiedBy>
  <dcterms:modified xsi:type="dcterms:W3CDTF">2010-05-06T19:29:27Z</dcterms:modified>
  <cp:revision>1</cp:revision>
  <dc:subject/>
  <dc:title>Slide 1</dc:title>
</cp:coreProperties>
</file>